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13A4-04A0-420C-8988-AE8E27EC7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D00D-5ED6-49E7-9AC8-92EA965DEEB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FAB4-9EAF-4DD6-B277-C8879F101B0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6B1F-FD97-412E-BDE7-96053AE3869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this for your lesson plan response objectives!  Experiential: How does this chapter make you fe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37D1-FA53-45EB-92C5-AF3CF56F35B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 types of responses – like our strategy book – consider what students do a lot of and encourage growth in other areas (just like we don’t want them only reading horse books, expand the ways they can respond, and you may attract/engage students who are bored with more typical responses; Hancock mentions redirecting, refocusing, and expanding response when you write bac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D534-3EF2-4BE4-BB01-CB453D5E7DC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90C7-EB39-44F7-AB9C-C88CAC608C1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CBE7-9F46-4D58-B839-F1A209E8574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C95D-F5D3-47A1-8EA2-6CEBAE9549F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BA26-FEAB-45E5-A8F2-89073A40C5A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CFC9-F672-4C0B-B485-C9AF7BA5AA4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3F1C-096F-4784-89FE-027B7383E4B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-term knowledge gains; self-awareness; connections to your own lives; rich comparisons across tex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BE6C-4445-41FB-8862-CB01FF1E1E9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A3AB-1E99-4674-AD36-6C63516A7AF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3427-B9A7-4F07-80C6-3BD7DBE3438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4D8-D338-482E-B53A-44A45216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D21-DD5C-4D10-B966-7708D5D0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570-775C-4CAE-81B9-E691BA45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342-0305-42F1-9BCB-1EAC10AF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73A3-2DF8-4179-8368-0A8886B0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B2A4-08DC-458C-BB5F-58DBF37F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391F-3CAF-48A9-8364-CAB75650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C456-D9C1-4DBC-86B3-34D40C11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7B90-C80F-4EB8-BF47-76FA0AB9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FB48-59DF-46F9-94EE-71253AC7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A4F7-0A53-45AA-96D6-9A842C1F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8BD-614E-4FC8-9DF2-9D82FE5B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D5D5-E94F-493C-86AE-B9631B21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34AF-955A-421F-A4F4-4ABFCBF2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003F-3BBA-452C-BE4E-52BF6DCC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169F-5B49-4D3D-B134-9EA59244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209C-8DDF-4B48-B867-B3923E04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CDE-A8F4-42A0-81A6-0AC67C98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A1E-AE08-4F21-B38F-A6F41D02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4A7-D7FB-4741-B319-876B721C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B0B-F552-4A81-96E9-049264D0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3033-AB14-4B05-A796-033BD8BA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5D1-9F72-442A-9EE2-1D86DFCF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2F4-DB48-467A-A084-58BC16BF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8618-DA1B-4592-A1BF-5B5F1A223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0328-F5B4-4EBA-9CA4-A02D575CC6AA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Documenting Responses to Literature and Comprehension Strategy Use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Literature Response Journal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ersonal meaning-making respons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nitoring understan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ing inferenc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ing, validating, or invalidating predic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pressing wonder or confus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haracter and plot involve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aracter interaction or assessment/judge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ory Involve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iterary evalu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iterary criticism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608200" y="639612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ancock article (1993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A challenge: How can we document learning from response activities? 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ow can we measure growth and link student responses to our instruction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ow can the quality of responses inform our teaching?  (formative assessment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ow can we involve students in the process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How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might you document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der response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eacher Anecdotal Record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- observations (stickies, mailing labels) accumulated by date (pair with students’ personal reflections over time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Daily reading log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track # and type of book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ture Circle Conversation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peer and self evaluation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ticker Guided Reflection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at involve students and move beyond letter grade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ture response fil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track varied types of prompts and responses and graph result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Screen shot 2011-11-16 at 8.15.34 AM.png"/>
          <p:cNvPicPr/>
          <p:nvPr/>
        </p:nvPicPr>
        <p:blipFill>
          <a:blip r:embed="rId1"/>
          <a:stretch/>
        </p:blipFill>
        <p:spPr>
          <a:xfrm>
            <a:off x="152280" y="304920"/>
            <a:ext cx="6548400" cy="6248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Screen shot 2011-11-16 at 8.16.23 AM.png"/>
          <p:cNvPicPr/>
          <p:nvPr/>
        </p:nvPicPr>
        <p:blipFill>
          <a:blip r:embed="rId2"/>
          <a:stretch/>
        </p:blipFill>
        <p:spPr>
          <a:xfrm>
            <a:off x="1066680" y="914400"/>
            <a:ext cx="782820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ticker Self-Assessment System in Response Journal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9" name="Picture 4" descr="Screen shot 2011-11-16 at 7.52.05 AM.png"/>
          <p:cNvPicPr/>
          <p:nvPr/>
        </p:nvPicPr>
        <p:blipFill>
          <a:blip r:embed="rId1"/>
          <a:stretch/>
        </p:blipFill>
        <p:spPr>
          <a:xfrm rot="179400">
            <a:off x="0" y="2743200"/>
            <a:ext cx="9037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ticker Self-Assessment System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21" name="Picture 3" descr="Screen shot 2011-11-16 at 7.56.57 AM.png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Screen shot 2011-11-16 at 7.43.44 AM.png"/>
          <p:cNvPicPr/>
          <p:nvPr/>
        </p:nvPicPr>
        <p:blipFill>
          <a:blip r:embed="rId1"/>
          <a:stretch/>
        </p:blipFill>
        <p:spPr>
          <a:xfrm>
            <a:off x="1231920" y="0"/>
            <a:ext cx="668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Literature Response Journals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Hancock, 2008, p. 278-279)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do you begin to design literature journal prompts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Experiential prompt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(connect to personal experiences)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Aesthetic prompt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(emotional interactions and character feelings)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Cognitive prompt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(inferences, M&amp;MDAVIS)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Interpretative prompt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(personal judgment about meaning/message &amp; characters)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sider these ideas for your “response objective” and center activity in your lesson plans!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racking Diversity in Repons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ersonal meaning-making respons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Monitoring understanding – I see that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Making inferences – I think.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Making, validating, or invalidating predictions – I predict 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Expressing wonder or confusion – I wonder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 and plot involve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haracter interaction – 1</a:t>
            </a:r>
            <a:r>
              <a:rPr b="0" lang="en-US" sz="2000" spc="-1" strike="noStrike" baseline="30000">
                <a:solidFill>
                  <a:srgbClr val="33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person – If I were him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haracter assessment/judgment – That character is.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tory Involvement – pos/neg reactions as the plot unfolds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ry evalua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Literary criticism – author’s craft or style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181520" y="5943600"/>
            <a:ext cx="66700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Keep a checklist of the opportunities you creat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 the ways students respon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Activity: Documenting Response and Strategy Use in Literature Journals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Trade your Book Activity 7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Running Out of Time journal entries) with a partn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Look for evidence of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ancock’s response categori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Personal Meaning, Char/Plot, Lit Eval); code all in the margin with PM, CP, and/or L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Look for evidence of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&amp;MDAVIS strategy us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; code all strategies in the margin with a single letter for eac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Note patterns of individual readers; Then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rite a short summary of observation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in your own notebook and what you might teach n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5. Discuss patterns across the group as a whol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Screen shot 2011-11-16 at 7.39.28 AM.png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Coding Categories for Literature Response Journal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PM: Personal meaning-making responses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Monitoring understanding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Making inferences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Making, validating, or invalidating predictions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Expressing wonder or confusion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CP: Character and plot involvement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Character interaction or assessment/judgment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Story Involvement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LE: Literary evaluation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Literary criticism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64280" y="640080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ancock article (1993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5720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mprehension Strategy Us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Monitor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C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Making connec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Determining Impt. Idea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Asking Ques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Visualiz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Inferenc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Summariz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4495680" y="1981080"/>
            <a:ext cx="0" cy="4114800"/>
          </a:xfrm>
          <a:prstGeom prst="line">
            <a:avLst/>
          </a:prstGeom>
          <a:ln w="572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497200" y="63961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rnett (2010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ocumenting Response Diversity and Strategy Us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43000" y="2209680"/>
          <a:ext cx="6858000" cy="34387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258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rs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P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har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lo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E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i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Eval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C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DI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sk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Vis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nf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u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77"/>
          <p:cNvSpPr/>
          <p:nvPr/>
        </p:nvSpPr>
        <p:spPr>
          <a:xfrm>
            <a:off x="950760" y="6006960"/>
            <a:ext cx="7567560" cy="825480"/>
          </a:xfrm>
          <a:prstGeom prst="rect">
            <a:avLst/>
          </a:prstGeom>
          <a:solidFill>
            <a:srgbClr val="feffa5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ould this data inform the feedback you give to a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articular student? What you teach next? To whom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ocumenting Response Diversity and Strategy Us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43000" y="2209680"/>
          <a:ext cx="6858000" cy="39261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rs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P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har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lo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E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i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Eval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C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DI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sk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Vis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nf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u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</a:tr>
            </a:tbl>
          </a:graphicData>
        </a:graphic>
      </p:graphicFrame>
      <p:sp>
        <p:nvSpPr>
          <p:cNvPr id="141" name="Text Box 77"/>
          <p:cNvSpPr/>
          <p:nvPr/>
        </p:nvSpPr>
        <p:spPr>
          <a:xfrm>
            <a:off x="950760" y="6006960"/>
            <a:ext cx="7567560" cy="825480"/>
          </a:xfrm>
          <a:prstGeom prst="rect">
            <a:avLst/>
          </a:prstGeom>
          <a:solidFill>
            <a:srgbClr val="feffa5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ould this data inform the feedback you give to a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articular student? What you teach next? To whom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ocumenting Response Diversity and Strategy Us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43000" y="2209680"/>
          <a:ext cx="6858000" cy="34387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258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rs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P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har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lo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E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i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Eval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C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DI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sk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Vis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nf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u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</a:tr>
            </a:tbl>
          </a:graphicData>
        </a:graphic>
      </p:graphicFrame>
      <p:sp>
        <p:nvSpPr>
          <p:cNvPr id="144" name="Text Box 77"/>
          <p:cNvSpPr/>
          <p:nvPr/>
        </p:nvSpPr>
        <p:spPr>
          <a:xfrm>
            <a:off x="661320" y="5791320"/>
            <a:ext cx="7908840" cy="825480"/>
          </a:xfrm>
          <a:prstGeom prst="rect">
            <a:avLst/>
          </a:prstGeom>
          <a:solidFill>
            <a:srgbClr val="feffa5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do these reflect the Common Core Standards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do we need more of (even as college students)?? 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Tues, Nov. 22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*** Hand In Lesson Plan 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Prepare for class by reviewing Vocabulary Slides and Handouts and thinking about your word and possible activities/prompts to build knowledge of that word 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Nov. 29: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Diverse Response Op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hapter 9: Diverse Response Option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ebquest Reading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Dec. 1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Quiz, Book Activity 8 (Topics for Webquests), Work on webquests during clas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Dec. 6 and 8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ontinue work and share diverse response option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Identify meaningful aspects of reading respons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Describe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what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how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 you would documen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reading performance and growth over time (in a response-based program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Practice documenting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response type and comprehension strategy use in student journal entries and using this data to inform your feedback and instru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**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See connection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between these ideas and your lesson plans (response objectives, assessment ideas, scoring systems, rubrics, etc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ding Respons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Goal = Build comprehension (thinking) and to make it visible!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uring (Process) &gt; Think-aloud &amp; charts to scaffold and organize think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fter (Product) &gt; Responding through writing and the ar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eaningful Responses =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 what?  What makes a text memorable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ersonal response and long-term knowledge goals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ick Write: What’s memorable to you?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nk about all the different ways you have responded to books, movies, and field trips in and out of school. Think silently for one minute and then work with a partner for three minutes to brainstorm the “response” activities that have been most memorable to you. What makes these memorable? 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What responses make your reading/viewing experiences memorable?  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Patterns of Response </a:t>
            </a:r>
            <a:br>
              <a:rPr sz="4000"/>
            </a:b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to Literature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03" name="Picture 3" descr="Picture 9"/>
          <p:cNvPicPr/>
          <p:nvPr/>
        </p:nvPicPr>
        <p:blipFill>
          <a:blip r:embed="rId1"/>
          <a:stretch/>
        </p:blipFill>
        <p:spPr>
          <a:xfrm>
            <a:off x="838080" y="1981080"/>
            <a:ext cx="7391520" cy="4129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5789160" y="6248520"/>
            <a:ext cx="24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ancock, Chapter 1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should you document in a Reader Response program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ocument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program opportunitie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individual student performanc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linked to specific book titles over the course of the year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stening behavior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ntact with Book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browsing, attention, proximity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mpulse to Shar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partner read, share/discus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Actions and Drama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readers theater, role playing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Art, Music, and Constructed Product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draw,cook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Oral Respons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retell, lit conversations, prompt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ritten Respons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response journals, adapting writing using literature model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4" marL="1789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Hancock p. 421 and 423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After-Reading Response Activities </a:t>
            </a:r>
            <a:br>
              <a:rPr sz="3600"/>
            </a:b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attempts to reflect natural conversations) 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iscussion Webs: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o view ideas from more than one perspective and make sound decisions informed by evidenc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Literature Circles: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o reflect open, natural conversations about books (use roles to scaffold the experience for beginners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2:05:21Z</dcterms:created>
  <dc:creator>Julie Coiro</dc:creator>
  <dc:description/>
  <dc:language>en-US</dc:language>
  <cp:lastModifiedBy>Julie Coiro</cp:lastModifiedBy>
  <cp:lastPrinted>2010-11-18T04:53:36Z</cp:lastPrinted>
  <dcterms:modified xsi:type="dcterms:W3CDTF">2011-11-16T14:07:25Z</dcterms:modified>
  <cp:revision>415</cp:revision>
  <dc:subject/>
  <dc:title>Metacognitive Strategy Instruction to Enhance Reading Comprehension</dc:title>
</cp:coreProperties>
</file>